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F4B-8A50-41B5-B4BF-467DE050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59F-FE41-41EA-B087-A5BF1F26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06C-611B-44EA-B9E7-E9725DA9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4C1-C0B6-48E6-9B97-9D6F40DD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DAF-9437-4E49-B282-928C144D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B55-D7C3-4F47-A7EC-85AC6699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006-1703-473C-881C-A39C6E7D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BB7-C9FC-4C6D-9561-5280ED43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788-7C74-4483-86FA-984E92A6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467-145C-409F-B42A-6995C202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678-EFB6-446C-80CC-C7D4DB66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02D-BD67-444C-9BE2-E9A6307F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2F8D-0CBC-4D5B-9719-F488B8DAD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5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’évaluation des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44680"/>
            <a:ext cx="784872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48720" y="544680"/>
            <a:ext cx="205740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de démarrage du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de fin de projet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623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668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718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767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1911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055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8006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86800" y="11430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ta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l j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487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23623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86800" y="20574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86800" y="60199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J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86800" y="17524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324480"/>
            <a:ext cx="4495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/Ac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86800" y="63244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812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862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956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36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420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8012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82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566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694720" y="266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36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420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012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82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566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94720" y="29718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036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20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8012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82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566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94720" y="32767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036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420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8012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82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566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94720" y="35812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036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420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8012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82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566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94720" y="38862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420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8012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82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566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694720" y="41911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36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20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8012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82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566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694720" y="44956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36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20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801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82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566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94720" y="48006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36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420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8012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82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566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94720" y="51055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36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20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8012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82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566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9472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36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420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8012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82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566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94720" y="57150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22:18Z</dcterms:modified>
  <cp:revision>105</cp:revision>
  <dc:subject/>
  <dc:title>Présentation PowerPoint</dc:title>
</cp:coreProperties>
</file>